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40E-4377-4970-B1CA-46E6F516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7CC-B5A5-4D37-94AF-31B61A6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A1A-A988-4C96-9436-0F3842E9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248-E6FA-4CBB-BC04-1F63B897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BE6-B940-4623-A44F-5CB9D01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B58-21D3-4481-B3CB-3C671F3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681-BD6F-462E-9F80-6D7F504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35B-5665-4A5B-BCE4-805CBB32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BFA-5342-4E12-A624-CF7D2E5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2F7-FBD2-4914-87FB-21B130D1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19B-F3F0-43EF-8E56-47CD20E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7CA-C999-4A0C-B8BA-4663CB1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1A6-7287-4DFE-AFEB-E3F27C89D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16818KHAPFKsPan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0"/>
            <a:ext cx="30481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الربُّ هوالله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هو صنعنا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نحن شعبُهُ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غنمُ مرعاه (×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لنَعبُدِ الربّ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بالفرحِ والحم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َهْتِفَنْ ل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رفَعِ الأيدي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9839597SVHMFGJHYQ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304920"/>
            <a:ext cx="3200400" cy="78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نّوا ورنّموا بأعجب الألحان بالأيدي صفقوا لسيد الأكوان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839130pPYJDRksSW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709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85800"/>
            <a:ext cx="335268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قدّمُ المجدَ لساكن السماء ونرفعُ الحمدَ لمن في وسطِنا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554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سمِ الهِنا سنرفع الرايات ولخلاصِه ِ ستعلو الترنيمات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 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41:27Z</dcterms:modified>
  <cp:revision>7</cp:revision>
  <dc:subject/>
  <dc:title>PowerPoint Presentation</dc:title>
</cp:coreProperties>
</file>